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28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1.jpeg" ContentType="image/jpeg"/>
  <Override PartName="/ppt/media/image26.jpeg" ContentType="image/jpeg"/>
  <Override PartName="/ppt/media/image5.jpeg" ContentType="image/jpeg"/>
  <Override PartName="/ppt/media/image27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28.png" ContentType="image/png"/>
  <Override PartName="/ppt/media/image7.jpeg" ContentType="image/jpeg"/>
  <Override PartName="/ppt/media/image12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1.png" ContentType="image/png"/>
  <Override PartName="/ppt/media/image4.jpeg" ContentType="image/jpeg"/>
  <Override PartName="/ppt/media/image25.jpeg" ContentType="image/jpeg"/>
  <Override PartName="/ppt/media/image30.png" ContentType="image/png"/>
  <Override PartName="/ppt/media/image3.jpeg" ContentType="image/jpeg"/>
  <Override PartName="/ppt/media/image24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</p:sldMasterIdLst>
  <p:notesMasterIdLst>
    <p:notesMasterId r:id="rId29"/>
  </p:notesMasterIdLst>
  <p:sldIdLst>
    <p:sldId id="256" r:id="rId30"/>
    <p:sldId id="257" r:id="rId31"/>
    <p:sldId id="258" r:id="rId32"/>
    <p:sldId id="259" r:id="rId33"/>
    <p:sldId id="260" r:id="rId34"/>
    <p:sldId id="261" r:id="rId35"/>
    <p:sldId id="262" r:id="rId36"/>
    <p:sldId id="263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notesMaster" Target="notesMasters/notesMaster1.xml"/><Relationship Id="rId30" Type="http://schemas.openxmlformats.org/officeDocument/2006/relationships/slide" Target="slides/slide1.xml"/><Relationship Id="rId31" Type="http://schemas.openxmlformats.org/officeDocument/2006/relationships/slide" Target="slides/slide2.xml"/><Relationship Id="rId32" Type="http://schemas.openxmlformats.org/officeDocument/2006/relationships/slide" Target="slides/slide3.xml"/><Relationship Id="rId33" Type="http://schemas.openxmlformats.org/officeDocument/2006/relationships/slide" Target="slides/slide4.xml"/><Relationship Id="rId34" Type="http://schemas.openxmlformats.org/officeDocument/2006/relationships/slide" Target="slides/slide5.xml"/><Relationship Id="rId35" Type="http://schemas.openxmlformats.org/officeDocument/2006/relationships/slide" Target="slides/slide6.xml"/><Relationship Id="rId36" Type="http://schemas.openxmlformats.org/officeDocument/2006/relationships/slide" Target="slides/slide7.xml"/><Relationship Id="rId37" Type="http://schemas.openxmlformats.org/officeDocument/2006/relationships/slide" Target="slides/slide8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 type="dt" idx="8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2" name="PlaceHolder 5"/>
          <p:cNvSpPr>
            <a:spLocks noGrp="1"/>
          </p:cNvSpPr>
          <p:nvPr>
            <p:ph type="ftr" idx="8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PlaceHolder 6"/>
          <p:cNvSpPr>
            <a:spLocks noGrp="1"/>
          </p:cNvSpPr>
          <p:nvPr>
            <p:ph type="sldNum" idx="8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E712C-053D-4C3B-9A29-65E8367916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4E1C0-F697-4547-B2EC-350AF7DDC6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FB89D-2EB3-4320-89BF-1811C9D09A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9DCA5-3A8A-491A-A8A5-FE870F6655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9A6DD-0FEB-46B4-8403-6911C68F5E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9C381-37ED-47D5-B981-F46C5CF413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CF566-30EB-455B-ACE8-7C4EC1EA25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D3F23-5673-4923-8E2E-9EF9995519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88636-47CF-4AD1-A923-AE4CD9238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4E541-38A5-47B9-9BFE-EBE761110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F9B8BA-2D65-4CD0-8299-8844B6B1B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B3DDD9-0ED1-44E8-8FE7-6C401382C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38E9DB-E309-413E-8F0F-251911FE7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F3D8FD-AEBA-4D88-82AA-04C07B5FD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3B4B67-D3B8-42F0-BB82-2CBABCF26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AA831F-7ADD-4DEB-9BE0-4743BD0CA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E1CC0E-7A40-461D-876B-B6AE8C7F1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796B4D-5B03-49D3-8982-5536522AC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630779-7125-4EA3-AA84-391BB70A1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713CCA-6B97-4EEE-89AF-3C6984FE7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2CC84-C5C2-4938-8E5A-7DD12AB92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E0110D-622F-42C7-B89F-4AAA2A80D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1E32E7-3F5A-466F-9400-0F2C8CBAC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5D9B83-AEB3-4B41-9525-4CE9405B6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6223AF-3ED5-4198-8A9C-225CACF7B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85D5FB-AE14-4356-B957-CEC7C6966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79D90B-35E3-42AE-8460-C48172ABE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BCF513-E868-4768-9605-BAE1BA222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DF027F-0101-4F00-ABDC-FEE958897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259E4F-D6AB-4564-8C8C-5AE53DB8C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517CA2-AD0E-4799-AE43-372A169A2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C8102-6C3F-4A8B-9F56-25E066111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509CB7-EB09-40E1-B662-5D7432F57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F681D3-5574-48A1-BC43-4B4A646DA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A00D85-D7FE-4B4D-92A1-597635138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3B60E6-6702-4042-8769-AA7C90ABC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15D69F-F999-4108-9751-644B4C0ED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7497D7-DC9B-466F-B12F-254250AD7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BAE168-A225-47C2-A0C0-6B9F3BDC0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977016-F087-45A0-B5D6-160A2783A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924D6C-B64C-47B3-9007-3A063779D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1B587C-2016-4F99-B238-61952A746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E7517-20CC-48B6-8372-0C5DC29E8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C0EC28-4DE5-4952-B457-2A4E04E5C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FB29D5-2BD3-439A-A9D8-572464FF1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D912EA-B884-4C4C-A97C-49EF798CD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86C947-56EE-4D7F-AE0A-89CD5A232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DEB3CF-2B3F-40F2-B04A-75A636676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B202F4-188A-43C3-9C2A-F9B4EC173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27E69F-6CBC-493E-BA21-3803A0BF6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DDAE26-F260-47AE-B151-A06332722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66557B-D3FE-4581-8116-A2BB9B6B5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3626D5-9969-4456-A596-213EB430F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81835-45CD-4D10-AB88-0AD581239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389530-B7F3-4BDC-9BFA-A294DBAF1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5CF4DF-095E-47B7-86F2-931A67B60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CF1A10-CDC4-46FD-8577-1679251CD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2D6E95-7C7D-472E-A862-4EC8803A6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2F2B9B-1E2E-4947-BF8F-D5C33E037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D0D2792-9E64-44B6-9F44-ED84FD087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49C2506-73E9-4F5D-863B-71079E907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688D01F-18E2-4276-9FDD-01F00508A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AF0E893-65B9-4E9B-8155-ACBA44E4A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C1B277E-124F-49BA-B7D5-CD03C3C41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DA45B-9498-4777-91C5-331D741C0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47B61D7-DD41-407C-9015-9AE26D184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F6B2314-32A5-4828-AB47-A35D7DE6B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B6C6E13-A6F4-430B-B1CE-BE6431D34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4D30C60-F4FF-45F0-84DE-2176199BF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033E1B3-B9E0-4D32-95F1-9BED25C54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56A0343-1A92-4947-BA71-B44DAED41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C9EEB03-AC56-45BE-927C-D3C5D9FFB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6A6B517-2500-4AC4-8AEC-62773014C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CFCDA12-AC2F-4C1D-B9F2-2381E8C77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B36BC5E-760D-4978-92A1-FB6D1FEC2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8EFF2-3C0D-410E-A4C3-DFE9091AE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E3B66FC-BF70-46BD-99A2-A6DF10581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A00F533-55A4-43B7-8CB8-BB4B5B535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FB8E4B1-F515-42F5-8FA5-765DCAE66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6791C03-055E-44C4-9DDC-E64F781D6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6A813EE-66FE-4CAA-9136-DCA5EF5EA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254BDCB-635E-4047-9D48-75337BB61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742EFD8-D69D-4C3B-BBB9-161E15D1B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4BFD535-529C-4D09-8B35-12CB80880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4B50C30-BDD7-42BF-8EF1-0F5B05B86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A48ED2A-5753-4649-9061-24298D829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F2300-D705-4261-87C4-68368FE1C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5B7660E-9C42-4B22-8CB3-E13A580A7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1AA0EDD-9EE2-4697-AF75-00C76DDAE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A1DEC43-EB94-46FC-BCD5-C12F13A77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C790E0B-739F-44DB-BE30-39C0851E7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8D4467F-218D-4A11-B44C-F4C3E5895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2FEA39B-C90A-481B-8712-B78AF0B67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8078187-478E-4D1C-918B-F8489DD4A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8AB0E3F-6209-4DE2-A0B1-9EBF8B44F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B86BEBF-326F-4EF5-B7F1-71EFF7927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5AF286D-CEC7-4DAA-9E5F-692B54FFA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6446B-086F-4A8A-9EFF-02C48DEEF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880F906-5A3A-4239-BD78-8EF4AC187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4B303A2-630B-4842-BC35-8C4ED0599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6D0A1D8-A02D-4775-8BB2-0D5F8101F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FC4C3F7-A6E8-44BD-8B59-E7B463E72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2990E53-2E8C-4246-885B-5CF1AC9C3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964E049-33C0-40D4-8FCD-A0A043358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9729A5B-3843-48DA-AAFF-31433ECDB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96DF9A0-69E1-4E76-9277-02F97A46F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09AA73B-970B-48ED-8AE6-552727DF7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DED210A-C0EA-40A6-81EB-EE7FE72DF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CF847-D7E0-437A-801E-DCCF38A2A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0BC9C66-0215-4C13-9F13-8AA8FACD1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5861362-6533-4783-B783-01A842173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4234318-2A1D-4105-A989-740E1194B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BCAFD2D-4DE1-4CF7-995D-CC1E204FD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EA5F2E0-25E8-4BC8-BF81-B9F7BCC92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B710AD0-0181-4DF5-BEC5-CE1A1323C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5594628-548A-40D7-8BA7-C87457D43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6232B90-1794-46A5-BCD9-18D7198F5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9B48E37-5A2E-4949-B369-0A7115267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E87B264-8CA2-498D-A2B2-A818D12A9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CC3A0-02C2-4380-A634-618F924BA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1FBE1-86AB-4D0D-B766-4EC2330DB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0F18CB8-1D6E-4903-AADA-F68046D54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D136D37-D4DE-4DD6-9FF5-1182F3C1F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A1D7CD9-0A80-4FB5-920A-DDF12EAEC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16B7E59-6C29-4487-8AAC-B78576780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78C4055-D52A-4603-BFB0-F4AEDD8B0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F528C8A-C771-4010-B73E-81E587548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87AC7E8-D7F7-4667-90C8-11AD0459B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8378458-878B-4B98-B3DF-B744A1B70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C9DE806-4D37-4F8D-B012-0C1F7ACB8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76AB1E9-5B38-4DAF-B66C-8EE4A27D2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E04E0-6518-4AC3-A8D9-C93758D48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38FDE63-D6DC-40EE-983B-97AF8F8E2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F0D2084-8F7E-4F99-AD85-0CF10179F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0808098-0B78-4C7C-BDAA-68008E4B8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1AD92E8-EB8F-45A4-B708-4B474019D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64F0393-9ECC-4BB3-B333-C47064A9F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D8F489D-4D9B-4CBC-962F-DB64E9077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A255787-906C-4C8D-A5FD-31337FB8A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A66B3E5-1BA7-48F3-A8A0-453F18553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C2297A9-5489-4AB6-9490-94A961907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01EA7CE-19D6-4391-BB12-086011856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B97D2-ED24-47B4-9FFE-3807EB29F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D179441-6FFE-4BF4-8332-806F3A9E9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7BE527E-6B8E-4B60-87ED-E8EC99954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C6B1A56-AF5E-4D8D-BA17-38FCFAE24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AA27401-5E30-4031-8C88-8F7228052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63B1C96-05E0-471D-9A69-762BB5BCC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383FD2C-CFF4-46F2-B059-8D6B4442C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74B67F9-3590-4CAA-8AE3-927E34A22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FB58FE9-AD3D-4A4C-B8BF-931DDBA10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3C3619B-E497-4ABD-9B2D-1B865F889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4380517-DC28-455C-A9FD-A9585856A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3158A-A375-4C04-AC78-9199B31B2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E1CE4D1-DE0F-4832-AAAA-7F7758DEF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C0B159D-3531-46D2-8C2D-BA1FD98A4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EB1770E-F1DE-449D-9188-7036205F7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0452298-3BB2-4EAB-9D18-7743CEB4A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E169D71-51A5-4CC7-A2DE-7772DCB59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66890DC-E9DB-45A0-B942-CA7A8A59F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F5DEC99-7FEA-4E98-9C4D-58B000BDE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F5EE0C3-FBEC-4391-8B9F-21C2495C2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84777C2-E4BA-4E5C-B886-C3D2BA90E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13B5A8A-374A-4A83-8E72-C37840A07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B94F2-FE7B-45E9-88CA-1DD942BD9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4183150-9B34-4BBD-B662-2C73B975C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8D6AC8F-FC2A-45DA-8570-D9FD97226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D28C612-66F0-4AEB-A4B4-00F2BC0D5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37F0C3C-5284-48CA-A85A-E8E17438B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19398CD-4E82-481D-9B7A-0D4B9299D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EC0413C-D35B-47F8-9A14-5402C3941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3615929-EDBA-4BBA-B45D-D48ADBE5C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C82D30C-CAE5-46D6-AE40-F7D21E4D2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FB8A424-039E-4564-AF62-07AABAF2B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0E4EAA8-CC37-40DF-BBAA-5B150B59A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6DB43C-4167-424E-A850-BE4A265E5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F8946BC-3CEA-408A-8270-7094E8798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A50075E-0CFA-4455-BDAA-2789057E2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5FD4603-926E-42FD-A285-116DDE89C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0EABFED-2CBD-4B39-836D-2D1DC52E6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C49F570-AAAA-45D2-A8A5-06D094BAC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86359E2-118E-458C-B253-3C6D839E0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0815ED6-23AC-4F65-B18A-147073AC7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6ED78B5-1CC2-4402-9345-7AC3F993D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2C316C2-FA3B-428F-A882-98D35AC11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8375D48-DBE6-4742-9955-ACCC10696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865BBA-576D-43C2-8CDB-F5AEB87D8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DEF8887-8CAF-451C-BF63-9D71E6FE4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289F174-DA9F-411E-9805-6AE704F01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306F309-29EF-410B-A146-4576E8C8A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02C9FE0-837D-4156-9933-FFD091ECB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49EAA5D-A6F4-488E-9416-D4D637928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9B677BB-85FF-475B-9CB6-7F300CA4E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489773A-8411-433F-9957-6788A6E37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E2B6300-202C-4C82-8431-D52E6ACD5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16524E6-45B7-4507-9A26-B0587D5A3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C37CE75-86B1-4B48-A940-E45D1B945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456ACE-2E7C-428E-8F2D-2CF63F01D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688B044-7892-4708-876C-982ACF416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04A10A0-E508-4814-B628-A227B4EE2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8A60F1D-A7D8-424D-8F1C-CCF26A0EC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F7D611E-ED0A-40B8-AD36-96E680143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A856611-4E0F-41C8-8688-2D83E101B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FCA5680-7B0D-4E51-8211-C8232B26E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67A3517-8CA6-4211-8227-C2E0FC827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37FCB82-3DE7-4EE0-BC03-E7F55CC6F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788005E-4793-4118-A2C0-A158B3A7B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257EE8B-A9E3-48FB-AAB3-E9434F5E5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205EE9-F668-4CB4-8A73-A3F1C645E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FC786AA-1665-4F85-98B2-4975635AC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BC8C34B-77F3-49BB-B14E-A4CD97B40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86E642C-A413-4F0B-A259-FB8E932E3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2C21AA2-98AE-4DEF-8723-8199BD503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777B46E-CEF6-4C4A-B012-E86FCC2F3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B178AD6-1017-4DDD-8DCB-0D0D510BF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9FD2D72-2EBE-40A2-A72C-1BFCAF380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8E8F14C-95CB-4B95-B422-F52D71E4A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27D8363-DB01-4885-A7C3-57CA0BB97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CF29936-55CE-4293-8803-3FE09DB33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8AE329-7ABC-4674-A656-3752FDA4A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85F4E02-B6B5-466E-9E8E-F767E6151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75B9C3A-A4B6-4DDF-86F2-95DC63CCA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F3A693F-B354-4942-883E-B26EB6245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11F773D-2806-4A31-A1ED-0CA2C7DD3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AADF2B4-71F6-4216-8E1D-4FD3FC2DB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BBCB482-C23B-48F6-B157-9AC6EFFC6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295E2F8-EF71-4B60-ACB3-9099B78AE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5CE3222-3838-4E62-9CCA-37D80A680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8148A81-BBD4-488B-9AC6-D6A22B616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283CCC2-4A20-4EC6-89F0-56BF0B5BF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793F8-71DE-472E-BDC0-177DC81B6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40B697-643F-4B91-93C4-F69B4E6E5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F8EF81B-C265-4885-BE57-D17AB4DA0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40DB526-6D7A-4E6F-A599-E273D65E9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42C157C-E0E7-4818-B3CB-D842B50A8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847785C-094E-4D17-96BB-41D5A95B2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3233FC4-4EF4-4B73-AFEE-80EFC8139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537AE3B-F1B8-469C-90BF-92A0AEB2C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8109E19-2BEF-46A1-8DA6-26F1C564E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59C04AB-88FA-4003-B72C-4CB3F2973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F91D8C0-679D-4677-968E-47A570080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7E6A7CE-BA14-41B0-BDFE-D4C21614F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2B7FD1-2B7E-416C-A275-9BFA35790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A0F74F3-F1B7-4DBD-A05D-AE804D350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E9ED336-93E7-4273-9CDF-8A8B6041A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77FB537-BB8D-4552-903E-139A51C35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5F434E9-8034-419B-8AA2-1A82B7C3E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62F3F85-D4AC-464D-A9FE-7FC05399B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109AB59-9414-4173-9BB3-8F08DB31C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12AE0CD-CAF7-4215-8C01-4DEEF0B87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1CB96A0-48F0-41CD-B2EF-95099FFD9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75BD27E-2459-4BED-9933-15500523F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19DC965-A0DC-4A18-BE4E-971A373CE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5FFC9D-136F-4F29-A3D6-5CB03FE48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317D3D3-5FB5-4BD9-8B7B-A58FC1A08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FD084A2-86D8-4045-AD5B-DA29B539E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854C6FF-E55E-490A-8743-81D66BADF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2BA76D3-8D7D-4AD5-A86B-397036F8B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1473892-2612-4250-A3EE-CED7F63F3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7CFE36-0C9F-46EA-822F-09F9C0587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CFFF34-4780-44C8-AAB0-71B18863E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97E466-7CDB-4358-8DF2-08A5870BF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1100DF-A818-4A15-8674-BB41B8B56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A5C51F-61E1-4F96-A1E6-378A5BE95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E43E06-DE94-4724-98BC-A95DE2C2E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220192-96B1-4F79-A7C7-159F459CF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AC13A-4756-4776-9AA8-71CEEB242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01F520-D080-45BF-B43E-2679BBFFC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737704-F9F2-4ED5-861C-D7B2784DF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16DE8E-2E50-4734-8A25-20F515214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C38B5A-F7FF-4416-B3E5-4455BB8F0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3F6D17-6337-47A4-BD5C-C8A575718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87CF5B-2510-4075-BC28-F1F042FEB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49C6BD-4C61-495E-8A63-9871A5A54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561E4B-0869-446A-81C8-4702FB1E2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AF5E66-4155-4D22-BBDB-00C3E21E1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9F7BF4-5851-4835-A803-172E3F3DA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A9ACA-42C9-41E1-8FB8-62B180B84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8398D4-375F-4E86-B303-ACE726344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9C5260-9758-40C4-893C-31C7DF3A5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2295D8-43B8-48B4-B35D-72DE18EE0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9F28A9-739C-405F-8240-E5CD01A0E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C4AC14-12CD-406D-97BA-A327255FB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EB8C37-765E-461A-B010-C465A6DAB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B70660-E708-4CAE-BACE-653419584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BFD52B-E775-4506-B09A-2DC0ADA3E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46D938-BB62-4101-963B-96D258116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8FF963-0F31-468E-BC52-23714B541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DA67D-16F7-4380-915F-6546AF334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5D8C97-CCCA-427D-B828-DFC2587F0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617E68-465F-4AFA-84D3-CA874C2FA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8A872C-CCEA-4A30-B011-DC5035F69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D55009-3EDB-45F7-93DF-A6C2271F1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2DA327-B80B-497C-922B-391596142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A8EE9C-39CC-429B-B959-9AE8EC4CC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00FECA-4C3B-44A6-847F-5122DC5C7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890C1F-C563-4165-B50E-E69C622E3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F0FEF5-A40A-4D61-9A13-62180EAE0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E76C9E-534E-4A96-8A52-220FA6D16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0E548-9B68-418D-8439-06386DA23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C539FF-6A4D-4B04-A845-DE56F81E9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3811DD-B581-4ED5-9CAF-D8D31A6C0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551B77-A2C3-4E3C-B551-898BDA422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05E92D-012A-4EB6-9C9B-008497A5B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EF5DEE-0FF8-46F6-9452-7998852DD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DB3574-2D9F-4F5D-9AB0-EACCBCCA7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19C667-5250-46F2-8AF2-19B7F3400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E61199-0C92-4E36-8D58-86C1B99FE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B63572-71A5-475E-A18E-BDB4DD01E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626645-FEDA-4B54-A999-9FA748C52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EF9B0-CC71-4D05-B50D-55EA0A2C0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1C1E6D-947D-411B-9802-91D1FA955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2567FD-A192-455F-A039-4B7D1797D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559E1E-EAD2-4F82-89E1-E4DE50011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A1082D-31D5-4AF7-AC65-F8BF0377C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9ACB38-D795-4A5F-B1FD-44426034E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FAA059-D713-4EC3-A5A2-29F169556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D5A7C8-3A5E-49A4-B683-FA13713A7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885E7B-8958-4E9C-943D-0411CE285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D38E61-CCEE-490C-9A83-FD1B5CE32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73E9AE-E93B-4C5F-9CDE-B9CC20854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3E30F-D33B-461F-95A8-233C2FB26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208D45-98A7-4290-B21A-DF1B69D85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717B8D-78EC-48B0-A65D-E39D4B16C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D94A07-56DD-4B63-9EF8-EC8B8A574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4F4263-B52E-47A6-898F-3F74A7A78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F6D4F8-E715-468D-B046-C69C2175D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06AFC8-55AF-4275-9CB1-C419DC1CA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D42ED6-D6CC-42C0-B2D6-9D46A1316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DCF6F6-FE7F-4ED9-B351-20C8D6832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137AAB-D08F-4ACA-B38D-9DF0B8101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814045-EF3F-4C07-B2C4-62A3D0DDB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289.xml"/><Relationship Id="rId4" Type="http://schemas.openxmlformats.org/officeDocument/2006/relationships/slideLayout" Target="../slideLayouts/slideLayout290.xml"/><Relationship Id="rId5" Type="http://schemas.openxmlformats.org/officeDocument/2006/relationships/slideLayout" Target="../slideLayouts/slideLayout291.xml"/><Relationship Id="rId6" Type="http://schemas.openxmlformats.org/officeDocument/2006/relationships/slideLayout" Target="../slideLayouts/slideLayout292.xml"/><Relationship Id="rId7" Type="http://schemas.openxmlformats.org/officeDocument/2006/relationships/slideLayout" Target="../slideLayouts/slideLayout293.xml"/><Relationship Id="rId8" Type="http://schemas.openxmlformats.org/officeDocument/2006/relationships/slideLayout" Target="../slideLayouts/slideLayout294.xml"/><Relationship Id="rId9" Type="http://schemas.openxmlformats.org/officeDocument/2006/relationships/slideLayout" Target="../slideLayouts/slideLayout295.xml"/><Relationship Id="rId10" Type="http://schemas.openxmlformats.org/officeDocument/2006/relationships/slideLayout" Target="../slideLayouts/slideLayout296.xml"/><Relationship Id="rId11" Type="http://schemas.openxmlformats.org/officeDocument/2006/relationships/slideLayout" Target="../slideLayouts/slideLayout297.xml"/><Relationship Id="rId12" Type="http://schemas.openxmlformats.org/officeDocument/2006/relationships/slideLayout" Target="../slideLayouts/slideLayout298.xml"/><Relationship Id="rId13" Type="http://schemas.openxmlformats.org/officeDocument/2006/relationships/slideLayout" Target="../slideLayouts/slideLayout299.xml"/><Relationship Id="rId14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301.xml"/><Relationship Id="rId4" Type="http://schemas.openxmlformats.org/officeDocument/2006/relationships/slideLayout" Target="../slideLayouts/slideLayout302.xml"/><Relationship Id="rId5" Type="http://schemas.openxmlformats.org/officeDocument/2006/relationships/slideLayout" Target="../slideLayouts/slideLayout303.xml"/><Relationship Id="rId6" Type="http://schemas.openxmlformats.org/officeDocument/2006/relationships/slideLayout" Target="../slideLayouts/slideLayout304.xml"/><Relationship Id="rId7" Type="http://schemas.openxmlformats.org/officeDocument/2006/relationships/slideLayout" Target="../slideLayouts/slideLayout305.xml"/><Relationship Id="rId8" Type="http://schemas.openxmlformats.org/officeDocument/2006/relationships/slideLayout" Target="../slideLayouts/slideLayout306.xml"/><Relationship Id="rId9" Type="http://schemas.openxmlformats.org/officeDocument/2006/relationships/slideLayout" Target="../slideLayouts/slideLayout307.xml"/><Relationship Id="rId10" Type="http://schemas.openxmlformats.org/officeDocument/2006/relationships/slideLayout" Target="../slideLayouts/slideLayout308.xml"/><Relationship Id="rId11" Type="http://schemas.openxmlformats.org/officeDocument/2006/relationships/slideLayout" Target="../slideLayouts/slideLayout309.xml"/><Relationship Id="rId12" Type="http://schemas.openxmlformats.org/officeDocument/2006/relationships/slideLayout" Target="../slideLayouts/slideLayout310.xml"/><Relationship Id="rId13" Type="http://schemas.openxmlformats.org/officeDocument/2006/relationships/slideLayout" Target="../slideLayouts/slideLayout311.xml"/><Relationship Id="rId14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313.xml"/><Relationship Id="rId4" Type="http://schemas.openxmlformats.org/officeDocument/2006/relationships/slideLayout" Target="../slideLayouts/slideLayout314.xml"/><Relationship Id="rId5" Type="http://schemas.openxmlformats.org/officeDocument/2006/relationships/slideLayout" Target="../slideLayouts/slideLayout315.xml"/><Relationship Id="rId6" Type="http://schemas.openxmlformats.org/officeDocument/2006/relationships/slideLayout" Target="../slideLayouts/slideLayout316.xml"/><Relationship Id="rId7" Type="http://schemas.openxmlformats.org/officeDocument/2006/relationships/slideLayout" Target="../slideLayouts/slideLayout317.xml"/><Relationship Id="rId8" Type="http://schemas.openxmlformats.org/officeDocument/2006/relationships/slideLayout" Target="../slideLayouts/slideLayout318.xml"/><Relationship Id="rId9" Type="http://schemas.openxmlformats.org/officeDocument/2006/relationships/slideLayout" Target="../slideLayouts/slideLayout319.xml"/><Relationship Id="rId10" Type="http://schemas.openxmlformats.org/officeDocument/2006/relationships/slideLayout" Target="../slideLayouts/slideLayout320.xml"/><Relationship Id="rId11" Type="http://schemas.openxmlformats.org/officeDocument/2006/relationships/slideLayout" Target="../slideLayouts/slideLayout321.xml"/><Relationship Id="rId12" Type="http://schemas.openxmlformats.org/officeDocument/2006/relationships/slideLayout" Target="../slideLayouts/slideLayout322.xml"/><Relationship Id="rId13" Type="http://schemas.openxmlformats.org/officeDocument/2006/relationships/slideLayout" Target="../slideLayouts/slideLayout323.xml"/><Relationship Id="rId14" Type="http://schemas.openxmlformats.org/officeDocument/2006/relationships/slideLayout" Target="../slideLayouts/slideLayout3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722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6ADAF-B307-40BC-AB78-D7EAD94095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4985B-8675-47C3-BE05-556CDEC1C6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B41DE-83DA-4C6A-B6A0-33AE741170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228564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87880" indent="-21240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13040" indent="-21240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13040" indent="-21240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13040" indent="-21240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4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3241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7D52B-6EA9-4C23-AC43-4F26B89AFB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7C1F8-8F71-49D3-B35E-EF785872EE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58B11-6061-49F5-A8F7-B0F9084A4C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457200" y="228564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87880" indent="-21240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13040" indent="-21240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13040" indent="-21240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13040" indent="-21240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dt" idx="43"/>
          </p:nvPr>
        </p:nvSpPr>
        <p:spPr>
          <a:xfrm>
            <a:off x="6854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sldNum" idx="45"/>
          </p:nvPr>
        </p:nvSpPr>
        <p:spPr>
          <a:xfrm>
            <a:off x="63241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68E1B-D855-4FB4-A5F1-85D22245C9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dt" idx="4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ftr" idx="4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97C2C-DF55-4F8B-8356-4934AC8245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5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B29CA-3B0B-4E05-B7C5-C044BC52F5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457200" y="228564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87880" indent="-21240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13040" indent="-21240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13040" indent="-21240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13040" indent="-21240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 type="dt" idx="52"/>
          </p:nvPr>
        </p:nvSpPr>
        <p:spPr>
          <a:xfrm>
            <a:off x="6854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 type="ftr" idx="5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 type="sldNum" idx="54"/>
          </p:nvPr>
        </p:nvSpPr>
        <p:spPr>
          <a:xfrm>
            <a:off x="63241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055A3-830E-47A4-BC6C-09EC8CF792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 type="dt" idx="5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 type="ftr" idx="5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5B77F-F60E-48A4-B563-3DE34FC565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914040" y="2285640"/>
            <a:ext cx="762012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87880" indent="-212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13040" indent="-212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13040" indent="-212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13040" indent="-212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5336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5336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5336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2B73B-AA76-4350-BC1F-637E005520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457200" y="1722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 type="dt" idx="5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 type="ftr" idx="5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9CD71-5C89-43A5-B4C4-99A2D0AFE5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457200" y="1752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457200" y="2895480"/>
            <a:ext cx="8229600" cy="32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79240" indent="-22284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91360" indent="-17820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48120" indent="-17820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04520" indent="-17820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04520" indent="-17820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04520" indent="-17820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 type="dt" idx="6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 type="ftr" idx="6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5"/>
          <p:cNvSpPr>
            <a:spLocks noGrp="1"/>
          </p:cNvSpPr>
          <p:nvPr>
            <p:ph type="sldNum" idx="6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B4710-3E1D-458D-8206-709E632D04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 type="dt" idx="6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 type="ftr" idx="6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5"/>
          <p:cNvSpPr>
            <a:spLocks noGrp="1"/>
          </p:cNvSpPr>
          <p:nvPr>
            <p:ph type="sldNum" idx="6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5F431-87C4-4C89-8281-2EB38CD146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body"/>
          </p:nvPr>
        </p:nvSpPr>
        <p:spPr>
          <a:xfrm>
            <a:off x="457200" y="1722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 type="dt" idx="6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 type="ftr" idx="6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5"/>
          <p:cNvSpPr>
            <a:spLocks noGrp="1"/>
          </p:cNvSpPr>
          <p:nvPr>
            <p:ph type="sldNum" idx="6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BCC01-76ED-406C-B037-77E1FF916E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457200" y="1752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body"/>
          </p:nvPr>
        </p:nvSpPr>
        <p:spPr>
          <a:xfrm>
            <a:off x="457200" y="2895480"/>
            <a:ext cx="8229600" cy="32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79240" indent="-22284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91360" indent="-17820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48120" indent="-17820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04520" indent="-17820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04520" indent="-17820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04520" indent="-17820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 type="dt" idx="7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 type="ftr" idx="7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5"/>
          <p:cNvSpPr>
            <a:spLocks noGrp="1"/>
          </p:cNvSpPr>
          <p:nvPr>
            <p:ph type="sldNum" idx="7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E8C2A-2174-461B-90E3-AC3A88B696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 type="dt" idx="7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PlaceHolder 4"/>
          <p:cNvSpPr>
            <a:spLocks noGrp="1"/>
          </p:cNvSpPr>
          <p:nvPr>
            <p:ph type="ftr" idx="7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PlaceHolder 5"/>
          <p:cNvSpPr>
            <a:spLocks noGrp="1"/>
          </p:cNvSpPr>
          <p:nvPr>
            <p:ph type="sldNum" idx="7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4ED1A-B378-427A-BE63-C99FAA4041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3"/>
    <p:sldLayoutId id="2147483962" r:id="rId4"/>
    <p:sldLayoutId id="2147483963" r:id="rId5"/>
    <p:sldLayoutId id="2147483964" r:id="rId6"/>
    <p:sldLayoutId id="2147483965" r:id="rId7"/>
    <p:sldLayoutId id="2147483966" r:id="rId8"/>
    <p:sldLayoutId id="2147483967" r:id="rId9"/>
    <p:sldLayoutId id="2147483968" r:id="rId10"/>
    <p:sldLayoutId id="2147483969" r:id="rId11"/>
    <p:sldLayoutId id="2147483970" r:id="rId12"/>
    <p:sldLayoutId id="2147483971" r:id="rId13"/>
    <p:sldLayoutId id="2147483972" r:id="rId14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457200" y="1722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 type="dt" idx="7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PlaceHolder 4"/>
          <p:cNvSpPr>
            <a:spLocks noGrp="1"/>
          </p:cNvSpPr>
          <p:nvPr>
            <p:ph type="ftr" idx="7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PlaceHolder 5"/>
          <p:cNvSpPr>
            <a:spLocks noGrp="1"/>
          </p:cNvSpPr>
          <p:nvPr>
            <p:ph type="sldNum" idx="7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B1DF9-67BA-4871-9BEC-4335846154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3"/>
    <p:sldLayoutId id="2147483975" r:id="rId4"/>
    <p:sldLayoutId id="2147483976" r:id="rId5"/>
    <p:sldLayoutId id="2147483977" r:id="rId6"/>
    <p:sldLayoutId id="2147483978" r:id="rId7"/>
    <p:sldLayoutId id="2147483979" r:id="rId8"/>
    <p:sldLayoutId id="2147483980" r:id="rId9"/>
    <p:sldLayoutId id="2147483981" r:id="rId10"/>
    <p:sldLayoutId id="2147483982" r:id="rId11"/>
    <p:sldLayoutId id="2147483983" r:id="rId12"/>
    <p:sldLayoutId id="2147483984" r:id="rId13"/>
    <p:sldLayoutId id="2147483985" r:id="rId14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457200" y="1752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 type="body"/>
          </p:nvPr>
        </p:nvSpPr>
        <p:spPr>
          <a:xfrm>
            <a:off x="457200" y="2895480"/>
            <a:ext cx="8229600" cy="32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79240" indent="-22284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91360" indent="-17820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48120" indent="-17820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04520" indent="-17820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04520" indent="-17820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04520" indent="-17820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 type="dt" idx="7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 type="ftr" idx="8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 type="sldNum" idx="8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83EE2-88F2-47BF-B35C-6A13F47488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3"/>
    <p:sldLayoutId id="2147483988" r:id="rId4"/>
    <p:sldLayoutId id="2147483989" r:id="rId5"/>
    <p:sldLayoutId id="2147483990" r:id="rId6"/>
    <p:sldLayoutId id="2147483991" r:id="rId7"/>
    <p:sldLayoutId id="2147483992" r:id="rId8"/>
    <p:sldLayoutId id="2147483993" r:id="rId9"/>
    <p:sldLayoutId id="2147483994" r:id="rId10"/>
    <p:sldLayoutId id="2147483995" r:id="rId11"/>
    <p:sldLayoutId id="2147483996" r:id="rId12"/>
    <p:sldLayoutId id="2147483997" r:id="rId13"/>
    <p:sldLayoutId id="2147483998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371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2895480"/>
            <a:ext cx="8229600" cy="32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79240" indent="-22284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91360" indent="-17820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48120" indent="-17820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04520" indent="-17820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04520" indent="-17820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04520" indent="-17820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2578F-B3F6-4B46-817E-649A22DF4E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722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D815F-7BF0-4AC8-B37C-87E374F7A8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14040" y="2285640"/>
            <a:ext cx="762012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87880" indent="-212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13040" indent="-212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13040" indent="-212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13040" indent="-212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5336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5336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5336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53B4C-83EF-4191-A457-42B3A30A67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371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2895480"/>
            <a:ext cx="8229600" cy="32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79240" indent="-22284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91360" indent="-17820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48120" indent="-17820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04520" indent="-17820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04520" indent="-17820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04520" indent="-17820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F8064-D71F-46F5-A48D-81119BB290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722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43BAD-4327-40BB-B66C-8E92556F79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040" y="2285640"/>
            <a:ext cx="762012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87880" indent="-212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13040" indent="-212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13040" indent="-212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13040" indent="-212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5336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5336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5336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047D9-BFC0-4079-B455-1DB2E8DE55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371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2895480"/>
            <a:ext cx="8229600" cy="32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79240" indent="-22284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91360" indent="-17820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48120" indent="-17820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04520" indent="-17820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04520" indent="-17820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04520" indent="-17820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6C045-20C0-4934-AB1E-F49EBF5A80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17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17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217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217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217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217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1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17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2.1: Linear Functions and Equations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ptember 18, 20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Objectives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ognize exact and approximat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y the graph of a linear fun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y a table of values for a linear fun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 data with a linear fun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Exact and Approximate Models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ct models correspond with the data exact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roximate models can be used to estimate the general tre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0" name="Object 4"/>
          <p:cNvGraphicFramePr/>
          <p:nvPr/>
        </p:nvGraphicFramePr>
        <p:xfrm>
          <a:off x="1600200" y="4114800"/>
          <a:ext cx="2200320" cy="225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4114800"/>
                    <a:ext cx="2200320" cy="225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22" name="Object 5"/>
          <p:cNvGraphicFramePr/>
          <p:nvPr/>
        </p:nvGraphicFramePr>
        <p:xfrm>
          <a:off x="5334120" y="3581280"/>
          <a:ext cx="2200320" cy="2257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23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34120" y="3581280"/>
                    <a:ext cx="2200320" cy="225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c1c1c"/>
                </a:solidFill>
                <a:latin typeface="Arial"/>
              </a:rPr>
              <a:t>Representations of linear functions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60199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ember f(x)=ax+b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is the slo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 is the y-interce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(x)= (constant rate of change)x+ (initial amou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6" name="Object 4"/>
          <p:cNvGraphicFramePr/>
          <p:nvPr/>
        </p:nvGraphicFramePr>
        <p:xfrm>
          <a:off x="5791320" y="2590920"/>
          <a:ext cx="2943000" cy="301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91320" y="2590920"/>
                    <a:ext cx="294300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8" name="SMARTPenAnnotation139"/>
          <p:cNvSpPr/>
          <p:nvPr/>
        </p:nvSpPr>
        <p:spPr>
          <a:xfrm>
            <a:off x="3600360" y="1235160"/>
            <a:ext cx="250920" cy="4111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SMARTPenAnnotation140"/>
          <p:cNvSpPr/>
          <p:nvPr/>
        </p:nvSpPr>
        <p:spPr>
          <a:xfrm>
            <a:off x="3921120" y="1279440"/>
            <a:ext cx="297000" cy="460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SMARTPenAnnotation141"/>
          <p:cNvSpPr/>
          <p:nvPr/>
        </p:nvSpPr>
        <p:spPr>
          <a:xfrm>
            <a:off x="3954600" y="1393920"/>
            <a:ext cx="309600" cy="792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SMARTPenAnnotation142"/>
          <p:cNvSpPr/>
          <p:nvPr/>
        </p:nvSpPr>
        <p:spPr>
          <a:xfrm>
            <a:off x="4354560" y="1201680"/>
            <a:ext cx="468360" cy="3207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SMARTPenAnnotation143"/>
          <p:cNvSpPr/>
          <p:nvPr/>
        </p:nvSpPr>
        <p:spPr>
          <a:xfrm>
            <a:off x="4869000" y="1246320"/>
            <a:ext cx="296640" cy="27144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SMARTPenAnnotation144"/>
          <p:cNvSpPr/>
          <p:nvPr/>
        </p:nvSpPr>
        <p:spPr>
          <a:xfrm>
            <a:off x="4869000" y="1268280"/>
            <a:ext cx="195120" cy="2746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SMARTPenAnnotation145"/>
          <p:cNvSpPr/>
          <p:nvPr/>
        </p:nvSpPr>
        <p:spPr>
          <a:xfrm>
            <a:off x="5132520" y="1382760"/>
            <a:ext cx="331560" cy="237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SMARTPenAnnotation146"/>
          <p:cNvSpPr/>
          <p:nvPr/>
        </p:nvSpPr>
        <p:spPr>
          <a:xfrm>
            <a:off x="5235480" y="1257480"/>
            <a:ext cx="136800" cy="2728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SMARTPenAnnotation147"/>
          <p:cNvSpPr/>
          <p:nvPr/>
        </p:nvSpPr>
        <p:spPr>
          <a:xfrm>
            <a:off x="5440320" y="1211400"/>
            <a:ext cx="317520" cy="37764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SMARTPenAnnotation148"/>
          <p:cNvSpPr/>
          <p:nvPr/>
        </p:nvSpPr>
        <p:spPr>
          <a:xfrm>
            <a:off x="6229440" y="3246480"/>
            <a:ext cx="90360" cy="5724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SMARTPenAnnotation149"/>
          <p:cNvSpPr/>
          <p:nvPr/>
        </p:nvSpPr>
        <p:spPr>
          <a:xfrm>
            <a:off x="5726160" y="4251240"/>
            <a:ext cx="171360" cy="349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520" bIns="-11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SMARTPenAnnotation150"/>
          <p:cNvSpPr/>
          <p:nvPr/>
        </p:nvSpPr>
        <p:spPr>
          <a:xfrm>
            <a:off x="5943600" y="4016520"/>
            <a:ext cx="182520" cy="3157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SMARTPenAnnotation151"/>
          <p:cNvSpPr/>
          <p:nvPr/>
        </p:nvSpPr>
        <p:spPr>
          <a:xfrm>
            <a:off x="6640560" y="5064120"/>
            <a:ext cx="260280" cy="3762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SMARTPenAnnotation152"/>
          <p:cNvSpPr/>
          <p:nvPr/>
        </p:nvSpPr>
        <p:spPr>
          <a:xfrm>
            <a:off x="7257960" y="3565440"/>
            <a:ext cx="136440" cy="27468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SMARTPenAnnotation153"/>
          <p:cNvSpPr/>
          <p:nvPr/>
        </p:nvSpPr>
        <p:spPr>
          <a:xfrm>
            <a:off x="7464600" y="3451320"/>
            <a:ext cx="68040" cy="35568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SMARTPenAnnotation154"/>
          <p:cNvSpPr/>
          <p:nvPr/>
        </p:nvSpPr>
        <p:spPr>
          <a:xfrm>
            <a:off x="7601040" y="3611520"/>
            <a:ext cx="125280" cy="19368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SMARTPenAnnotation155"/>
          <p:cNvSpPr/>
          <p:nvPr/>
        </p:nvSpPr>
        <p:spPr>
          <a:xfrm>
            <a:off x="7772400" y="3578400"/>
            <a:ext cx="68400" cy="4680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SMARTPenAnnotation156"/>
          <p:cNvSpPr/>
          <p:nvPr/>
        </p:nvSpPr>
        <p:spPr>
          <a:xfrm>
            <a:off x="7761240" y="3521160"/>
            <a:ext cx="204840" cy="2286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SMARTPenAnnotation157"/>
          <p:cNvSpPr/>
          <p:nvPr/>
        </p:nvSpPr>
        <p:spPr>
          <a:xfrm>
            <a:off x="8001000" y="3475080"/>
            <a:ext cx="171360" cy="2397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SMARTPenAnnotation158"/>
          <p:cNvSpPr/>
          <p:nvPr/>
        </p:nvSpPr>
        <p:spPr>
          <a:xfrm>
            <a:off x="8194680" y="3452760"/>
            <a:ext cx="149400" cy="4464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SMARTPenAnnotation159"/>
          <p:cNvSpPr/>
          <p:nvPr/>
        </p:nvSpPr>
        <p:spPr>
          <a:xfrm>
            <a:off x="8207280" y="3532320"/>
            <a:ext cx="147600" cy="4608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SMARTPenAnnotation160"/>
          <p:cNvSpPr/>
          <p:nvPr/>
        </p:nvSpPr>
        <p:spPr>
          <a:xfrm>
            <a:off x="8435880" y="3235320"/>
            <a:ext cx="136800" cy="111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SMARTPenAnnotation161"/>
          <p:cNvSpPr/>
          <p:nvPr/>
        </p:nvSpPr>
        <p:spPr>
          <a:xfrm>
            <a:off x="8550360" y="3060720"/>
            <a:ext cx="199800" cy="3222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SMARTPenAnnotation162"/>
          <p:cNvSpPr/>
          <p:nvPr/>
        </p:nvSpPr>
        <p:spPr>
          <a:xfrm>
            <a:off x="8645400" y="3178080"/>
            <a:ext cx="270000" cy="3348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SMARTPenAnnotation163"/>
          <p:cNvSpPr/>
          <p:nvPr/>
        </p:nvSpPr>
        <p:spPr>
          <a:xfrm>
            <a:off x="8550360" y="3451320"/>
            <a:ext cx="422280" cy="349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520" bIns="-11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SMARTPenAnnotation164"/>
          <p:cNvSpPr/>
          <p:nvPr/>
        </p:nvSpPr>
        <p:spPr>
          <a:xfrm>
            <a:off x="8583480" y="3532320"/>
            <a:ext cx="228600" cy="2505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SMARTPenAnnotation165"/>
          <p:cNvSpPr/>
          <p:nvPr/>
        </p:nvSpPr>
        <p:spPr>
          <a:xfrm>
            <a:off x="3635280" y="4332240"/>
            <a:ext cx="262080" cy="51444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SMARTPenAnnotation166"/>
          <p:cNvSpPr/>
          <p:nvPr/>
        </p:nvSpPr>
        <p:spPr>
          <a:xfrm>
            <a:off x="3440160" y="4583160"/>
            <a:ext cx="366840" cy="2376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SMARTPenAnnotation167"/>
          <p:cNvSpPr/>
          <p:nvPr/>
        </p:nvSpPr>
        <p:spPr>
          <a:xfrm>
            <a:off x="3830760" y="4365720"/>
            <a:ext cx="284040" cy="48096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SMARTPenAnnotation168"/>
          <p:cNvSpPr/>
          <p:nvPr/>
        </p:nvSpPr>
        <p:spPr>
          <a:xfrm>
            <a:off x="4092480" y="4537080"/>
            <a:ext cx="273240" cy="24120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SMARTPenAnnotation169"/>
          <p:cNvSpPr/>
          <p:nvPr/>
        </p:nvSpPr>
        <p:spPr>
          <a:xfrm>
            <a:off x="4057560" y="4525920"/>
            <a:ext cx="250920" cy="29700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SMARTPenAnnotation170"/>
          <p:cNvSpPr/>
          <p:nvPr/>
        </p:nvSpPr>
        <p:spPr>
          <a:xfrm>
            <a:off x="4332240" y="4354560"/>
            <a:ext cx="120600" cy="4111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SMARTPenAnnotation171"/>
          <p:cNvSpPr/>
          <p:nvPr/>
        </p:nvSpPr>
        <p:spPr>
          <a:xfrm>
            <a:off x="4572000" y="4503600"/>
            <a:ext cx="228600" cy="3348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SMARTPenAnnotation172"/>
          <p:cNvSpPr/>
          <p:nvPr/>
        </p:nvSpPr>
        <p:spPr>
          <a:xfrm>
            <a:off x="4594320" y="4618080"/>
            <a:ext cx="228600" cy="223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SMARTPenAnnotation173"/>
          <p:cNvSpPr/>
          <p:nvPr/>
        </p:nvSpPr>
        <p:spPr>
          <a:xfrm>
            <a:off x="3578400" y="5143680"/>
            <a:ext cx="228600" cy="1080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SMARTPenAnnotation174"/>
          <p:cNvSpPr/>
          <p:nvPr/>
        </p:nvSpPr>
        <p:spPr>
          <a:xfrm>
            <a:off x="3875040" y="4983120"/>
            <a:ext cx="203400" cy="27468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SMARTPenAnnotation175"/>
          <p:cNvSpPr/>
          <p:nvPr/>
        </p:nvSpPr>
        <p:spPr>
          <a:xfrm>
            <a:off x="3679920" y="5394240"/>
            <a:ext cx="571320" cy="2376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SMARTPenAnnotation176"/>
          <p:cNvSpPr/>
          <p:nvPr/>
        </p:nvSpPr>
        <p:spPr>
          <a:xfrm>
            <a:off x="3807000" y="5475240"/>
            <a:ext cx="295200" cy="3301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SMARTPenAnnotation177"/>
          <p:cNvSpPr/>
          <p:nvPr/>
        </p:nvSpPr>
        <p:spPr>
          <a:xfrm>
            <a:off x="4365720" y="5246640"/>
            <a:ext cx="320760" cy="36504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SMARTPenAnnotation178"/>
          <p:cNvSpPr/>
          <p:nvPr/>
        </p:nvSpPr>
        <p:spPr>
          <a:xfrm>
            <a:off x="4321080" y="5349960"/>
            <a:ext cx="319320" cy="19368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SMARTPenAnnotation179"/>
          <p:cNvSpPr/>
          <p:nvPr/>
        </p:nvSpPr>
        <p:spPr>
          <a:xfrm>
            <a:off x="4743360" y="5349960"/>
            <a:ext cx="250920" cy="223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SMARTPenAnnotation180"/>
          <p:cNvSpPr/>
          <p:nvPr/>
        </p:nvSpPr>
        <p:spPr>
          <a:xfrm>
            <a:off x="4869000" y="5222880"/>
            <a:ext cx="56880" cy="331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SMARTPenAnnotation181"/>
          <p:cNvSpPr/>
          <p:nvPr/>
        </p:nvSpPr>
        <p:spPr>
          <a:xfrm>
            <a:off x="4697280" y="5326200"/>
            <a:ext cx="354240" cy="34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520" bIns="-11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SMARTPenAnnotation182"/>
          <p:cNvSpPr/>
          <p:nvPr/>
        </p:nvSpPr>
        <p:spPr>
          <a:xfrm>
            <a:off x="5154480" y="5018040"/>
            <a:ext cx="354240" cy="57168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SMARTPenAnnotation183"/>
          <p:cNvSpPr/>
          <p:nvPr/>
        </p:nvSpPr>
        <p:spPr>
          <a:xfrm>
            <a:off x="5257800" y="5292720"/>
            <a:ext cx="263520" cy="1015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Finding slope and y-intercep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m a graph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m a func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(x)=10x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5" name="Object 4"/>
          <p:cNvGraphicFramePr/>
          <p:nvPr/>
        </p:nvGraphicFramePr>
        <p:xfrm>
          <a:off x="3962520" y="1676520"/>
          <a:ext cx="2943000" cy="301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7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62520" y="1676520"/>
                    <a:ext cx="294300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7" name="SMARTPenAnnotation118"/>
          <p:cNvSpPr/>
          <p:nvPr/>
        </p:nvSpPr>
        <p:spPr>
          <a:xfrm>
            <a:off x="4938840" y="5349960"/>
            <a:ext cx="250560" cy="3301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SMARTPenAnnotation119"/>
          <p:cNvSpPr/>
          <p:nvPr/>
        </p:nvSpPr>
        <p:spPr>
          <a:xfrm>
            <a:off x="5270400" y="5200560"/>
            <a:ext cx="33480" cy="4003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SMARTPenAnnotation120"/>
          <p:cNvSpPr/>
          <p:nvPr/>
        </p:nvSpPr>
        <p:spPr>
          <a:xfrm>
            <a:off x="5337000" y="5327640"/>
            <a:ext cx="149400" cy="2937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SMARTPenAnnotation121"/>
          <p:cNvSpPr/>
          <p:nvPr/>
        </p:nvSpPr>
        <p:spPr>
          <a:xfrm>
            <a:off x="5578560" y="5303880"/>
            <a:ext cx="57240" cy="3999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SMARTPenAnnotation122"/>
          <p:cNvSpPr/>
          <p:nvPr/>
        </p:nvSpPr>
        <p:spPr>
          <a:xfrm>
            <a:off x="5543640" y="5292720"/>
            <a:ext cx="228600" cy="2620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SMARTPenAnnotation123"/>
          <p:cNvSpPr/>
          <p:nvPr/>
        </p:nvSpPr>
        <p:spPr>
          <a:xfrm>
            <a:off x="5761080" y="5251320"/>
            <a:ext cx="239760" cy="2905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SMARTPenAnnotation124"/>
          <p:cNvSpPr/>
          <p:nvPr/>
        </p:nvSpPr>
        <p:spPr>
          <a:xfrm>
            <a:off x="6126120" y="5222880"/>
            <a:ext cx="239760" cy="810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SMARTPenAnnotation125"/>
          <p:cNvSpPr/>
          <p:nvPr/>
        </p:nvSpPr>
        <p:spPr>
          <a:xfrm>
            <a:off x="6240600" y="5268960"/>
            <a:ext cx="263520" cy="1141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SMARTPenAnnotation126"/>
          <p:cNvSpPr/>
          <p:nvPr/>
        </p:nvSpPr>
        <p:spPr>
          <a:xfrm>
            <a:off x="6640560" y="5097600"/>
            <a:ext cx="11160" cy="37764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SMARTPenAnnotation127"/>
          <p:cNvSpPr/>
          <p:nvPr/>
        </p:nvSpPr>
        <p:spPr>
          <a:xfrm>
            <a:off x="6780240" y="5121360"/>
            <a:ext cx="233280" cy="3412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SMARTPenAnnotation128"/>
          <p:cNvSpPr/>
          <p:nvPr/>
        </p:nvSpPr>
        <p:spPr>
          <a:xfrm>
            <a:off x="7257960" y="5132520"/>
            <a:ext cx="285840" cy="6919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SMARTPenAnnotation129"/>
          <p:cNvSpPr/>
          <p:nvPr/>
        </p:nvSpPr>
        <p:spPr>
          <a:xfrm>
            <a:off x="7612200" y="5211720"/>
            <a:ext cx="46080" cy="2221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SMARTPenAnnotation130"/>
          <p:cNvSpPr/>
          <p:nvPr/>
        </p:nvSpPr>
        <p:spPr>
          <a:xfrm>
            <a:off x="7554960" y="5097600"/>
            <a:ext cx="34920" cy="349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520" bIns="-11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SMARTPenAnnotation131"/>
          <p:cNvSpPr/>
          <p:nvPr/>
        </p:nvSpPr>
        <p:spPr>
          <a:xfrm>
            <a:off x="7669080" y="5165640"/>
            <a:ext cx="149400" cy="2415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SMARTPenAnnotation132"/>
          <p:cNvSpPr/>
          <p:nvPr/>
        </p:nvSpPr>
        <p:spPr>
          <a:xfrm>
            <a:off x="7886880" y="5006880"/>
            <a:ext cx="45720" cy="43344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SMARTPenAnnotation133"/>
          <p:cNvSpPr/>
          <p:nvPr/>
        </p:nvSpPr>
        <p:spPr>
          <a:xfrm>
            <a:off x="7807320" y="5133960"/>
            <a:ext cx="308160" cy="1015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SMARTPenAnnotation134"/>
          <p:cNvSpPr/>
          <p:nvPr/>
        </p:nvSpPr>
        <p:spPr>
          <a:xfrm>
            <a:off x="8093160" y="5248440"/>
            <a:ext cx="158760" cy="316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SMARTPenAnnotation135"/>
          <p:cNvSpPr/>
          <p:nvPr/>
        </p:nvSpPr>
        <p:spPr>
          <a:xfrm>
            <a:off x="8055000" y="5349960"/>
            <a:ext cx="152280" cy="5724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SMARTPenAnnotation136"/>
          <p:cNvSpPr/>
          <p:nvPr/>
        </p:nvSpPr>
        <p:spPr>
          <a:xfrm>
            <a:off x="8218440" y="5361120"/>
            <a:ext cx="3240" cy="360"/>
          </a:xfrm>
          <a:prstGeom prst="pie">
            <a:avLst/>
          </a:prstGeom>
          <a:solidFill>
            <a:srgbClr val="0066ff"/>
          </a:solidFill>
          <a:ln w="38160">
            <a:solidFill>
              <a:srgbClr val="0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SMARTPenAnnotation137"/>
          <p:cNvSpPr/>
          <p:nvPr/>
        </p:nvSpPr>
        <p:spPr>
          <a:xfrm>
            <a:off x="8389800" y="5246640"/>
            <a:ext cx="147600" cy="334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SMARTPenAnnotation138"/>
          <p:cNvSpPr/>
          <p:nvPr/>
        </p:nvSpPr>
        <p:spPr>
          <a:xfrm>
            <a:off x="8583480" y="4994280"/>
            <a:ext cx="41400" cy="4348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Finding a linear function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5720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start ten miles from home, and then drive 50 mph hour.  Write a function that shows this situ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 a function that passes through (2, 4) and (3, 10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 a function for this grap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00" name="Object 4"/>
          <p:cNvGraphicFramePr/>
          <p:nvPr/>
        </p:nvGraphicFramePr>
        <p:xfrm>
          <a:off x="5243400" y="2286000"/>
          <a:ext cx="3638520" cy="373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43400" y="2286000"/>
                    <a:ext cx="3638520" cy="373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02" name="SMARTPenAnnotation78"/>
          <p:cNvSpPr/>
          <p:nvPr/>
        </p:nvSpPr>
        <p:spPr>
          <a:xfrm>
            <a:off x="5726160" y="4595760"/>
            <a:ext cx="158760" cy="1350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SMARTPenAnnotation79"/>
          <p:cNvSpPr/>
          <p:nvPr/>
        </p:nvSpPr>
        <p:spPr>
          <a:xfrm>
            <a:off x="5978520" y="4643280"/>
            <a:ext cx="250920" cy="4780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SMARTPenAnnotation80"/>
          <p:cNvSpPr/>
          <p:nvPr/>
        </p:nvSpPr>
        <p:spPr>
          <a:xfrm>
            <a:off x="6275520" y="4640400"/>
            <a:ext cx="46080" cy="1825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SMARTPenAnnotation81"/>
          <p:cNvSpPr/>
          <p:nvPr/>
        </p:nvSpPr>
        <p:spPr>
          <a:xfrm>
            <a:off x="6229440" y="4572000"/>
            <a:ext cx="11160" cy="111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SMARTPenAnnotation82"/>
          <p:cNvSpPr/>
          <p:nvPr/>
        </p:nvSpPr>
        <p:spPr>
          <a:xfrm>
            <a:off x="6354720" y="4594320"/>
            <a:ext cx="171360" cy="1825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SMARTPenAnnotation83"/>
          <p:cNvSpPr/>
          <p:nvPr/>
        </p:nvSpPr>
        <p:spPr>
          <a:xfrm>
            <a:off x="6572160" y="4446720"/>
            <a:ext cx="34920" cy="3315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SMARTPenAnnotation84"/>
          <p:cNvSpPr/>
          <p:nvPr/>
        </p:nvSpPr>
        <p:spPr>
          <a:xfrm>
            <a:off x="6504120" y="4525920"/>
            <a:ext cx="399960" cy="2095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SMARTPenAnnotation85"/>
          <p:cNvSpPr/>
          <p:nvPr/>
        </p:nvSpPr>
        <p:spPr>
          <a:xfrm>
            <a:off x="6915240" y="4440240"/>
            <a:ext cx="399960" cy="35244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SMARTPenAnnotation86"/>
          <p:cNvSpPr/>
          <p:nvPr/>
        </p:nvSpPr>
        <p:spPr>
          <a:xfrm>
            <a:off x="7383600" y="4286160"/>
            <a:ext cx="63360" cy="2970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SMARTPenAnnotation87"/>
          <p:cNvSpPr/>
          <p:nvPr/>
        </p:nvSpPr>
        <p:spPr>
          <a:xfrm>
            <a:off x="7350120" y="4275000"/>
            <a:ext cx="318960" cy="12564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SMARTPenAnnotation88"/>
          <p:cNvSpPr/>
          <p:nvPr/>
        </p:nvSpPr>
        <p:spPr>
          <a:xfrm>
            <a:off x="7601040" y="4332240"/>
            <a:ext cx="149040" cy="684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960" bIns="21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SMARTPenAnnotation89"/>
          <p:cNvSpPr/>
          <p:nvPr/>
        </p:nvSpPr>
        <p:spPr>
          <a:xfrm>
            <a:off x="7601040" y="4354560"/>
            <a:ext cx="217440" cy="1252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SMARTPenAnnotation90"/>
          <p:cNvSpPr/>
          <p:nvPr/>
        </p:nvSpPr>
        <p:spPr>
          <a:xfrm>
            <a:off x="7851600" y="4137120"/>
            <a:ext cx="412920" cy="26964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SMARTPenAnnotation91"/>
          <p:cNvSpPr/>
          <p:nvPr/>
        </p:nvSpPr>
        <p:spPr>
          <a:xfrm>
            <a:off x="5794200" y="4297320"/>
            <a:ext cx="721080" cy="32724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SMARTPenAnnotation92"/>
          <p:cNvSpPr/>
          <p:nvPr/>
        </p:nvSpPr>
        <p:spPr>
          <a:xfrm>
            <a:off x="5600880" y="4378320"/>
            <a:ext cx="17280" cy="17136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SMARTPenAnnotation93"/>
          <p:cNvSpPr/>
          <p:nvPr/>
        </p:nvSpPr>
        <p:spPr>
          <a:xfrm>
            <a:off x="6035760" y="4062240"/>
            <a:ext cx="222120" cy="18756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SMARTPenAnnotation94"/>
          <p:cNvSpPr/>
          <p:nvPr/>
        </p:nvSpPr>
        <p:spPr>
          <a:xfrm>
            <a:off x="6286680" y="3567240"/>
            <a:ext cx="331560" cy="23652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SMARTPenAnnotation95"/>
          <p:cNvSpPr/>
          <p:nvPr/>
        </p:nvSpPr>
        <p:spPr>
          <a:xfrm>
            <a:off x="6664320" y="3451320"/>
            <a:ext cx="193680" cy="8100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SMARTPenAnnotation96"/>
          <p:cNvSpPr/>
          <p:nvPr/>
        </p:nvSpPr>
        <p:spPr>
          <a:xfrm>
            <a:off x="6708600" y="3532320"/>
            <a:ext cx="171720" cy="7920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SMARTPenAnnotation97"/>
          <p:cNvSpPr/>
          <p:nvPr/>
        </p:nvSpPr>
        <p:spPr>
          <a:xfrm>
            <a:off x="6937200" y="3086280"/>
            <a:ext cx="127080" cy="20628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SMARTPenAnnotation98"/>
          <p:cNvSpPr/>
          <p:nvPr/>
        </p:nvSpPr>
        <p:spPr>
          <a:xfrm>
            <a:off x="6937200" y="3314880"/>
            <a:ext cx="298800" cy="11412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SMARTPenAnnotation99"/>
          <p:cNvSpPr/>
          <p:nvPr/>
        </p:nvSpPr>
        <p:spPr>
          <a:xfrm>
            <a:off x="7086600" y="3417840"/>
            <a:ext cx="320760" cy="22536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SMARTPenAnnotation100"/>
          <p:cNvSpPr/>
          <p:nvPr/>
        </p:nvSpPr>
        <p:spPr>
          <a:xfrm>
            <a:off x="6208560" y="5361120"/>
            <a:ext cx="260640" cy="54756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SMARTPenAnnotation101"/>
          <p:cNvSpPr/>
          <p:nvPr/>
        </p:nvSpPr>
        <p:spPr>
          <a:xfrm>
            <a:off x="6080040" y="5622840"/>
            <a:ext cx="298440" cy="16056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SMARTPenAnnotation102"/>
          <p:cNvSpPr/>
          <p:nvPr/>
        </p:nvSpPr>
        <p:spPr>
          <a:xfrm>
            <a:off x="6378480" y="5622840"/>
            <a:ext cx="3240" cy="360"/>
          </a:xfrm>
          <a:prstGeom prst="pie">
            <a:avLst/>
          </a:prstGeom>
          <a:solidFill>
            <a:srgbClr val="0066ff"/>
          </a:solidFill>
          <a:ln w="38160">
            <a:solidFill>
              <a:srgbClr val="009d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SMARTPenAnnotation103"/>
          <p:cNvSpPr/>
          <p:nvPr/>
        </p:nvSpPr>
        <p:spPr>
          <a:xfrm>
            <a:off x="6423120" y="5418000"/>
            <a:ext cx="137880" cy="47952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SMARTPenAnnotation104"/>
          <p:cNvSpPr/>
          <p:nvPr/>
        </p:nvSpPr>
        <p:spPr>
          <a:xfrm>
            <a:off x="6526080" y="5851440"/>
            <a:ext cx="3240" cy="360"/>
          </a:xfrm>
          <a:prstGeom prst="pie">
            <a:avLst/>
          </a:prstGeom>
          <a:solidFill>
            <a:srgbClr val="0066ff"/>
          </a:solidFill>
          <a:ln w="38160">
            <a:solidFill>
              <a:srgbClr val="009d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SMARTPenAnnotation105"/>
          <p:cNvSpPr/>
          <p:nvPr/>
        </p:nvSpPr>
        <p:spPr>
          <a:xfrm>
            <a:off x="6539040" y="5646600"/>
            <a:ext cx="158760" cy="12564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SMARTPenAnnotation106"/>
          <p:cNvSpPr/>
          <p:nvPr/>
        </p:nvSpPr>
        <p:spPr>
          <a:xfrm>
            <a:off x="6561000" y="5565600"/>
            <a:ext cx="125640" cy="32076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SMARTPenAnnotation107"/>
          <p:cNvSpPr/>
          <p:nvPr/>
        </p:nvSpPr>
        <p:spPr>
          <a:xfrm>
            <a:off x="6721560" y="5440320"/>
            <a:ext cx="125280" cy="55872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SMARTPenAnnotation108"/>
          <p:cNvSpPr/>
          <p:nvPr/>
        </p:nvSpPr>
        <p:spPr>
          <a:xfrm>
            <a:off x="6915240" y="5591160"/>
            <a:ext cx="206280" cy="5544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SMARTPenAnnotation109"/>
          <p:cNvSpPr/>
          <p:nvPr/>
        </p:nvSpPr>
        <p:spPr>
          <a:xfrm>
            <a:off x="6954840" y="5622840"/>
            <a:ext cx="166680" cy="10332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SMARTPenAnnotation110"/>
          <p:cNvSpPr/>
          <p:nvPr/>
        </p:nvSpPr>
        <p:spPr>
          <a:xfrm>
            <a:off x="7304040" y="5407200"/>
            <a:ext cx="22320" cy="19368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SMARTPenAnnotation111"/>
          <p:cNvSpPr/>
          <p:nvPr/>
        </p:nvSpPr>
        <p:spPr>
          <a:xfrm>
            <a:off x="7165800" y="5646600"/>
            <a:ext cx="228600" cy="11448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SMARTPenAnnotation112"/>
          <p:cNvSpPr/>
          <p:nvPr/>
        </p:nvSpPr>
        <p:spPr>
          <a:xfrm>
            <a:off x="7246800" y="5772240"/>
            <a:ext cx="217800" cy="20484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SMARTPenAnnotation113"/>
          <p:cNvSpPr/>
          <p:nvPr/>
        </p:nvSpPr>
        <p:spPr>
          <a:xfrm>
            <a:off x="7475400" y="5600880"/>
            <a:ext cx="193680" cy="21744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SMARTPenAnnotation114"/>
          <p:cNvSpPr/>
          <p:nvPr/>
        </p:nvSpPr>
        <p:spPr>
          <a:xfrm>
            <a:off x="7521480" y="5565600"/>
            <a:ext cx="101520" cy="25272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SMARTPenAnnotation115"/>
          <p:cNvSpPr/>
          <p:nvPr/>
        </p:nvSpPr>
        <p:spPr>
          <a:xfrm>
            <a:off x="7704000" y="5565600"/>
            <a:ext cx="250920" cy="6840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960" bIns="21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SMARTPenAnnotation116"/>
          <p:cNvSpPr/>
          <p:nvPr/>
        </p:nvSpPr>
        <p:spPr>
          <a:xfrm>
            <a:off x="7783560" y="5475240"/>
            <a:ext cx="34920" cy="30816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SMARTPenAnnotation117"/>
          <p:cNvSpPr/>
          <p:nvPr/>
        </p:nvSpPr>
        <p:spPr>
          <a:xfrm>
            <a:off x="7989840" y="5361120"/>
            <a:ext cx="193680" cy="35388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SMARTPenAnnotation0"/>
          <p:cNvSpPr/>
          <p:nvPr/>
        </p:nvSpPr>
        <p:spPr>
          <a:xfrm>
            <a:off x="1889280" y="743040"/>
            <a:ext cx="260280" cy="66348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SMARTPenAnnotation1"/>
          <p:cNvSpPr/>
          <p:nvPr/>
        </p:nvSpPr>
        <p:spPr>
          <a:xfrm>
            <a:off x="2036880" y="971640"/>
            <a:ext cx="352440" cy="28584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SMARTPenAnnotation2"/>
          <p:cNvSpPr/>
          <p:nvPr/>
        </p:nvSpPr>
        <p:spPr>
          <a:xfrm>
            <a:off x="2446200" y="1222200"/>
            <a:ext cx="11160" cy="13824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SMARTPenAnnotation3"/>
          <p:cNvSpPr/>
          <p:nvPr/>
        </p:nvSpPr>
        <p:spPr>
          <a:xfrm>
            <a:off x="2651040" y="960480"/>
            <a:ext cx="34920" cy="30780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SMARTPenAnnotation4"/>
          <p:cNvSpPr/>
          <p:nvPr/>
        </p:nvSpPr>
        <p:spPr>
          <a:xfrm>
            <a:off x="2754360" y="822240"/>
            <a:ext cx="216000" cy="60660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SMARTPenAnnotation5"/>
          <p:cNvSpPr/>
          <p:nvPr/>
        </p:nvSpPr>
        <p:spPr>
          <a:xfrm>
            <a:off x="2971800" y="1211400"/>
            <a:ext cx="112680" cy="23940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SMARTPenAnnotation6"/>
          <p:cNvSpPr/>
          <p:nvPr/>
        </p:nvSpPr>
        <p:spPr>
          <a:xfrm>
            <a:off x="3336840" y="800280"/>
            <a:ext cx="228600" cy="60624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SMARTPenAnnotation7"/>
          <p:cNvSpPr/>
          <p:nvPr/>
        </p:nvSpPr>
        <p:spPr>
          <a:xfrm>
            <a:off x="3556080" y="925560"/>
            <a:ext cx="226800" cy="169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SMARTPenAnnotation8"/>
          <p:cNvSpPr/>
          <p:nvPr/>
        </p:nvSpPr>
        <p:spPr>
          <a:xfrm>
            <a:off x="3705120" y="903240"/>
            <a:ext cx="44640" cy="4111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SMARTPenAnnotation9"/>
          <p:cNvSpPr/>
          <p:nvPr/>
        </p:nvSpPr>
        <p:spPr>
          <a:xfrm>
            <a:off x="3817800" y="1292400"/>
            <a:ext cx="46080" cy="13644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SMARTPenAnnotation10"/>
          <p:cNvSpPr/>
          <p:nvPr/>
        </p:nvSpPr>
        <p:spPr>
          <a:xfrm>
            <a:off x="4046400" y="868320"/>
            <a:ext cx="306360" cy="39996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SMARTPenAnnotation11"/>
          <p:cNvSpPr/>
          <p:nvPr/>
        </p:nvSpPr>
        <p:spPr>
          <a:xfrm>
            <a:off x="4251240" y="720720"/>
            <a:ext cx="371520" cy="65088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SMARTPenAnnotation12"/>
          <p:cNvSpPr/>
          <p:nvPr/>
        </p:nvSpPr>
        <p:spPr>
          <a:xfrm>
            <a:off x="2046240" y="2000160"/>
            <a:ext cx="525600" cy="331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SMARTPenAnnotation13"/>
          <p:cNvSpPr/>
          <p:nvPr/>
        </p:nvSpPr>
        <p:spPr>
          <a:xfrm>
            <a:off x="2685960" y="2068560"/>
            <a:ext cx="193680" cy="4608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SMARTPenAnnotation14"/>
          <p:cNvSpPr/>
          <p:nvPr/>
        </p:nvSpPr>
        <p:spPr>
          <a:xfrm>
            <a:off x="2708280" y="2182680"/>
            <a:ext cx="171360" cy="34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520" bIns="-11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SMARTPenAnnotation15"/>
          <p:cNvSpPr/>
          <p:nvPr/>
        </p:nvSpPr>
        <p:spPr>
          <a:xfrm>
            <a:off x="3051000" y="1771560"/>
            <a:ext cx="298800" cy="12384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SMARTPenAnnotation16"/>
          <p:cNvSpPr/>
          <p:nvPr/>
        </p:nvSpPr>
        <p:spPr>
          <a:xfrm>
            <a:off x="3279600" y="1679400"/>
            <a:ext cx="12960" cy="4003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SMARTPenAnnotation17"/>
          <p:cNvSpPr/>
          <p:nvPr/>
        </p:nvSpPr>
        <p:spPr>
          <a:xfrm>
            <a:off x="2994120" y="2139840"/>
            <a:ext cx="549360" cy="11124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SMARTPenAnnotation18"/>
          <p:cNvSpPr/>
          <p:nvPr/>
        </p:nvSpPr>
        <p:spPr>
          <a:xfrm>
            <a:off x="3052800" y="2343240"/>
            <a:ext cx="615960" cy="25056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SMARTPenAnnotation19"/>
          <p:cNvSpPr/>
          <p:nvPr/>
        </p:nvSpPr>
        <p:spPr>
          <a:xfrm>
            <a:off x="3817800" y="2046240"/>
            <a:ext cx="228600" cy="5724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SMARTPenAnnotation20"/>
          <p:cNvSpPr/>
          <p:nvPr/>
        </p:nvSpPr>
        <p:spPr>
          <a:xfrm>
            <a:off x="3851280" y="2103480"/>
            <a:ext cx="263520" cy="9036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SMARTPenAnnotation21"/>
          <p:cNvSpPr/>
          <p:nvPr/>
        </p:nvSpPr>
        <p:spPr>
          <a:xfrm>
            <a:off x="4229280" y="1819440"/>
            <a:ext cx="421920" cy="41904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SMARTPenAnnotation22"/>
          <p:cNvSpPr/>
          <p:nvPr/>
        </p:nvSpPr>
        <p:spPr>
          <a:xfrm>
            <a:off x="1771560" y="2930400"/>
            <a:ext cx="365040" cy="78444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SMARTPenAnnotation23"/>
          <p:cNvSpPr/>
          <p:nvPr/>
        </p:nvSpPr>
        <p:spPr>
          <a:xfrm>
            <a:off x="2251080" y="3108240"/>
            <a:ext cx="342720" cy="5724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SMARTPenAnnotation24"/>
          <p:cNvSpPr/>
          <p:nvPr/>
        </p:nvSpPr>
        <p:spPr>
          <a:xfrm>
            <a:off x="2617920" y="2938320"/>
            <a:ext cx="442800" cy="7416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SMARTPenAnnotation25"/>
          <p:cNvSpPr/>
          <p:nvPr/>
        </p:nvSpPr>
        <p:spPr>
          <a:xfrm>
            <a:off x="3079800" y="3165480"/>
            <a:ext cx="98280" cy="921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SMARTPenAnnotation26"/>
          <p:cNvSpPr/>
          <p:nvPr/>
        </p:nvSpPr>
        <p:spPr>
          <a:xfrm>
            <a:off x="3086280" y="3189240"/>
            <a:ext cx="68040" cy="111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SMARTPenAnnotation27"/>
          <p:cNvSpPr/>
          <p:nvPr/>
        </p:nvSpPr>
        <p:spPr>
          <a:xfrm>
            <a:off x="3097080" y="3165480"/>
            <a:ext cx="92160" cy="903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SMARTPenAnnotation28"/>
          <p:cNvSpPr/>
          <p:nvPr/>
        </p:nvSpPr>
        <p:spPr>
          <a:xfrm>
            <a:off x="3440160" y="3086280"/>
            <a:ext cx="309600" cy="457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SMARTPenAnnotation29"/>
          <p:cNvSpPr/>
          <p:nvPr/>
        </p:nvSpPr>
        <p:spPr>
          <a:xfrm>
            <a:off x="3463920" y="3178080"/>
            <a:ext cx="330120" cy="684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960" bIns="21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SMARTPenAnnotation30"/>
          <p:cNvSpPr/>
          <p:nvPr/>
        </p:nvSpPr>
        <p:spPr>
          <a:xfrm>
            <a:off x="3990960" y="3040200"/>
            <a:ext cx="398520" cy="2761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SMARTPenAnnotation31"/>
          <p:cNvSpPr/>
          <p:nvPr/>
        </p:nvSpPr>
        <p:spPr>
          <a:xfrm>
            <a:off x="4483080" y="2835360"/>
            <a:ext cx="271440" cy="6253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SMARTPenAnnotation32"/>
          <p:cNvSpPr/>
          <p:nvPr/>
        </p:nvSpPr>
        <p:spPr>
          <a:xfrm>
            <a:off x="4754520" y="3017880"/>
            <a:ext cx="331920" cy="3078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SMARTPenAnnotation33"/>
          <p:cNvSpPr/>
          <p:nvPr/>
        </p:nvSpPr>
        <p:spPr>
          <a:xfrm>
            <a:off x="4675320" y="3029040"/>
            <a:ext cx="307800" cy="3078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SMARTPenAnnotation34"/>
          <p:cNvSpPr/>
          <p:nvPr/>
        </p:nvSpPr>
        <p:spPr>
          <a:xfrm>
            <a:off x="5097600" y="3154320"/>
            <a:ext cx="309600" cy="237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SMARTPenAnnotation35"/>
          <p:cNvSpPr/>
          <p:nvPr/>
        </p:nvSpPr>
        <p:spPr>
          <a:xfrm>
            <a:off x="5532480" y="3006720"/>
            <a:ext cx="307800" cy="2509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SMARTPenAnnotation36"/>
          <p:cNvSpPr/>
          <p:nvPr/>
        </p:nvSpPr>
        <p:spPr>
          <a:xfrm>
            <a:off x="5475240" y="3006720"/>
            <a:ext cx="318960" cy="35388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SMARTPenAnnotation37"/>
          <p:cNvSpPr/>
          <p:nvPr/>
        </p:nvSpPr>
        <p:spPr>
          <a:xfrm>
            <a:off x="5854680" y="3200400"/>
            <a:ext cx="100080" cy="1350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SMARTPenAnnotation38"/>
          <p:cNvSpPr/>
          <p:nvPr/>
        </p:nvSpPr>
        <p:spPr>
          <a:xfrm>
            <a:off x="5783400" y="2778120"/>
            <a:ext cx="396720" cy="6397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SMARTPenAnnotation39"/>
          <p:cNvSpPr/>
          <p:nvPr/>
        </p:nvSpPr>
        <p:spPr>
          <a:xfrm>
            <a:off x="1716120" y="3897360"/>
            <a:ext cx="363600" cy="6285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SMARTPenAnnotation40"/>
          <p:cNvSpPr/>
          <p:nvPr/>
        </p:nvSpPr>
        <p:spPr>
          <a:xfrm>
            <a:off x="2171880" y="4068720"/>
            <a:ext cx="331560" cy="111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SMARTPenAnnotation41"/>
          <p:cNvSpPr/>
          <p:nvPr/>
        </p:nvSpPr>
        <p:spPr>
          <a:xfrm>
            <a:off x="2617920" y="3828960"/>
            <a:ext cx="21960" cy="4795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SMARTPenAnnotation42"/>
          <p:cNvSpPr/>
          <p:nvPr/>
        </p:nvSpPr>
        <p:spPr>
          <a:xfrm>
            <a:off x="2822400" y="3978360"/>
            <a:ext cx="241560" cy="4428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SMARTPenAnnotation43"/>
          <p:cNvSpPr/>
          <p:nvPr/>
        </p:nvSpPr>
        <p:spPr>
          <a:xfrm>
            <a:off x="2846520" y="4079880"/>
            <a:ext cx="274680" cy="5724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SMARTPenAnnotation44"/>
          <p:cNvSpPr/>
          <p:nvPr/>
        </p:nvSpPr>
        <p:spPr>
          <a:xfrm>
            <a:off x="3211560" y="3841920"/>
            <a:ext cx="377640" cy="3873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SMARTPenAnnotation45"/>
          <p:cNvSpPr/>
          <p:nvPr/>
        </p:nvSpPr>
        <p:spPr>
          <a:xfrm>
            <a:off x="3714840" y="3708360"/>
            <a:ext cx="239760" cy="6127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SMARTPenAnnotation46"/>
          <p:cNvSpPr/>
          <p:nvPr/>
        </p:nvSpPr>
        <p:spPr>
          <a:xfrm>
            <a:off x="3965400" y="3954600"/>
            <a:ext cx="331920" cy="28548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SMARTPenAnnotation47"/>
          <p:cNvSpPr/>
          <p:nvPr/>
        </p:nvSpPr>
        <p:spPr>
          <a:xfrm>
            <a:off x="3932280" y="4000680"/>
            <a:ext cx="318960" cy="2505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SMARTPenAnnotation48"/>
          <p:cNvSpPr/>
          <p:nvPr/>
        </p:nvSpPr>
        <p:spPr>
          <a:xfrm>
            <a:off x="4286160" y="4079880"/>
            <a:ext cx="217440" cy="349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520" bIns="-11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SMARTPenAnnotation49"/>
          <p:cNvSpPr/>
          <p:nvPr/>
        </p:nvSpPr>
        <p:spPr>
          <a:xfrm>
            <a:off x="4618080" y="3909960"/>
            <a:ext cx="307800" cy="2779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SMARTPenAnnotation50"/>
          <p:cNvSpPr/>
          <p:nvPr/>
        </p:nvSpPr>
        <p:spPr>
          <a:xfrm>
            <a:off x="4937040" y="3807000"/>
            <a:ext cx="193680" cy="4572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SMARTPenAnnotation51"/>
          <p:cNvSpPr/>
          <p:nvPr/>
        </p:nvSpPr>
        <p:spPr>
          <a:xfrm>
            <a:off x="2057400" y="1393920"/>
            <a:ext cx="331920" cy="921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SMARTPenAnnotation52"/>
          <p:cNvSpPr/>
          <p:nvPr/>
        </p:nvSpPr>
        <p:spPr>
          <a:xfrm>
            <a:off x="2629080" y="1325520"/>
            <a:ext cx="193320" cy="349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520" bIns="-11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SMARTPenAnnotation53"/>
          <p:cNvSpPr/>
          <p:nvPr/>
        </p:nvSpPr>
        <p:spPr>
          <a:xfrm>
            <a:off x="1760400" y="4640400"/>
            <a:ext cx="331920" cy="6030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SMARTPenAnnotation54"/>
          <p:cNvSpPr/>
          <p:nvPr/>
        </p:nvSpPr>
        <p:spPr>
          <a:xfrm>
            <a:off x="2286000" y="4835520"/>
            <a:ext cx="182520" cy="111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SMARTPenAnnotation55"/>
          <p:cNvSpPr/>
          <p:nvPr/>
        </p:nvSpPr>
        <p:spPr>
          <a:xfrm>
            <a:off x="2639880" y="4562640"/>
            <a:ext cx="68400" cy="4665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SMARTPenAnnotation56"/>
          <p:cNvSpPr/>
          <p:nvPr/>
        </p:nvSpPr>
        <p:spPr>
          <a:xfrm>
            <a:off x="2811600" y="4732200"/>
            <a:ext cx="263520" cy="223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SMARTPenAnnotation57"/>
          <p:cNvSpPr/>
          <p:nvPr/>
        </p:nvSpPr>
        <p:spPr>
          <a:xfrm>
            <a:off x="2879640" y="4869000"/>
            <a:ext cx="217440" cy="237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SMARTPenAnnotation58"/>
          <p:cNvSpPr/>
          <p:nvPr/>
        </p:nvSpPr>
        <p:spPr>
          <a:xfrm>
            <a:off x="3211560" y="4572000"/>
            <a:ext cx="492120" cy="3999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SMARTPenAnnotation59"/>
          <p:cNvSpPr/>
          <p:nvPr/>
        </p:nvSpPr>
        <p:spPr>
          <a:xfrm>
            <a:off x="3703680" y="4618080"/>
            <a:ext cx="376200" cy="2617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SMARTPenAnnotation60"/>
          <p:cNvSpPr/>
          <p:nvPr/>
        </p:nvSpPr>
        <p:spPr>
          <a:xfrm>
            <a:off x="3749760" y="4629240"/>
            <a:ext cx="285840" cy="21744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SMARTPenAnnotation61"/>
          <p:cNvSpPr/>
          <p:nvPr/>
        </p:nvSpPr>
        <p:spPr>
          <a:xfrm>
            <a:off x="4092480" y="4765680"/>
            <a:ext cx="216000" cy="3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SMARTPenAnnotation62"/>
          <p:cNvSpPr/>
          <p:nvPr/>
        </p:nvSpPr>
        <p:spPr>
          <a:xfrm>
            <a:off x="4343400" y="4514760"/>
            <a:ext cx="228600" cy="20664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SMARTPenAnnotation63"/>
          <p:cNvSpPr/>
          <p:nvPr/>
        </p:nvSpPr>
        <p:spPr>
          <a:xfrm>
            <a:off x="4519440" y="4525920"/>
            <a:ext cx="41400" cy="44604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SMARTPenAnnotation64"/>
          <p:cNvSpPr/>
          <p:nvPr/>
        </p:nvSpPr>
        <p:spPr>
          <a:xfrm>
            <a:off x="2274840" y="5211720"/>
            <a:ext cx="274680" cy="5724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SMARTPenAnnotation65"/>
          <p:cNvSpPr/>
          <p:nvPr/>
        </p:nvSpPr>
        <p:spPr>
          <a:xfrm>
            <a:off x="2446200" y="5097600"/>
            <a:ext cx="46080" cy="36648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SMARTPenAnnotation66"/>
          <p:cNvSpPr/>
          <p:nvPr/>
        </p:nvSpPr>
        <p:spPr>
          <a:xfrm>
            <a:off x="2765520" y="5154480"/>
            <a:ext cx="30240" cy="4003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SMARTPenAnnotation67"/>
          <p:cNvSpPr/>
          <p:nvPr/>
        </p:nvSpPr>
        <p:spPr>
          <a:xfrm>
            <a:off x="4057560" y="5154480"/>
            <a:ext cx="378000" cy="241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2320" bIns="-22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SMARTPenAnnotation68"/>
          <p:cNvSpPr/>
          <p:nvPr/>
        </p:nvSpPr>
        <p:spPr>
          <a:xfrm>
            <a:off x="4286160" y="5029200"/>
            <a:ext cx="79560" cy="27468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SMARTPenAnnotation69"/>
          <p:cNvSpPr/>
          <p:nvPr/>
        </p:nvSpPr>
        <p:spPr>
          <a:xfrm>
            <a:off x="4572000" y="5006880"/>
            <a:ext cx="34920" cy="4003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SMARTPenAnnotation70"/>
          <p:cNvSpPr/>
          <p:nvPr/>
        </p:nvSpPr>
        <p:spPr>
          <a:xfrm>
            <a:off x="1851120" y="5657760"/>
            <a:ext cx="399960" cy="6048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SMARTPenAnnotation71"/>
          <p:cNvSpPr/>
          <p:nvPr/>
        </p:nvSpPr>
        <p:spPr>
          <a:xfrm>
            <a:off x="2354400" y="5842080"/>
            <a:ext cx="217440" cy="223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SMARTPenAnnotation72"/>
          <p:cNvSpPr/>
          <p:nvPr/>
        </p:nvSpPr>
        <p:spPr>
          <a:xfrm>
            <a:off x="2354400" y="5932440"/>
            <a:ext cx="217440" cy="540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SMARTPenAnnotation73"/>
          <p:cNvSpPr/>
          <p:nvPr/>
        </p:nvSpPr>
        <p:spPr>
          <a:xfrm>
            <a:off x="2664000" y="5611680"/>
            <a:ext cx="272880" cy="3780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SMARTPenAnnotation74"/>
          <p:cNvSpPr/>
          <p:nvPr/>
        </p:nvSpPr>
        <p:spPr>
          <a:xfrm>
            <a:off x="3040200" y="5715000"/>
            <a:ext cx="285480" cy="3301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SMARTPenAnnotation75"/>
          <p:cNvSpPr/>
          <p:nvPr/>
        </p:nvSpPr>
        <p:spPr>
          <a:xfrm>
            <a:off x="3022560" y="5783400"/>
            <a:ext cx="223920" cy="21744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SMARTPenAnnotation76"/>
          <p:cNvSpPr/>
          <p:nvPr/>
        </p:nvSpPr>
        <p:spPr>
          <a:xfrm>
            <a:off x="3382920" y="5943600"/>
            <a:ext cx="182520" cy="349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520" bIns="-11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SMARTPenAnnotation77"/>
          <p:cNvSpPr/>
          <p:nvPr/>
        </p:nvSpPr>
        <p:spPr>
          <a:xfrm>
            <a:off x="3635280" y="5726160"/>
            <a:ext cx="297000" cy="4111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Your assignmen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. 82-87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-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5-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1-5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7-6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4T18:51:38Z</dcterms:created>
  <dc:creator>nuhs</dc:creator>
  <dc:description/>
  <dc:language>en-US</dc:language>
  <cp:lastModifiedBy>Ameena</cp:lastModifiedBy>
  <dcterms:modified xsi:type="dcterms:W3CDTF">2008-09-18T19:40:48Z</dcterms:modified>
  <cp:revision>6</cp:revision>
  <dc:subject/>
  <dc:title>Slide 1</dc:title>
</cp:coreProperties>
</file>